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79D-D435-46D0-9D9B-EEDE5360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2E9-ABE7-402F-9C56-30BE4A73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BE7-7CCD-4A99-BFC2-6E652384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ED9-B8AD-41AB-A7E9-40335B43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B370-DCF9-4090-8CBB-D1F94BD1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7FEE-C01D-42CF-86C5-EE183794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656E-8612-40BD-8720-8C91407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2B4-44FE-481B-A87A-5131120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2E3B-21BB-434C-B72E-01CFDC06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FFFC-2DEE-4285-8C11-1FF39653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1268-76B3-4751-B48E-09C17F55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CE5-DA28-4C69-A5FD-F77E98D2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98E2-82BA-4F3C-862C-348192B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45A7-998B-4671-A90A-622E2B5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466B-A3C7-457E-A9F5-4939F3E6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15EF-8426-4E60-9100-5254F159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D2DF-D560-4F1C-BC8F-6FF8B23D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1FD-9DB9-401F-8631-31E8C6FC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3F5-57B8-40C1-B74A-7CDF7951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207-CA77-4A35-A5B0-1E709510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538-CB55-4DAC-B40F-41A87242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361-8620-43B7-8904-439FE38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2FC-FB77-420D-98B4-B8DA6D7F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312-FDF8-4D28-8510-EEC8647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FF1C-5C56-4A5F-8E9D-EE7225A88D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5702-24C7-4322-9547-6BDA2B8EA66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MONI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72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use these logics to build up knowledge of individual object properties and object pairs (like overtak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fine, but there are drawbac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examine all objects without considering whether they are relevant to the behaviours we want to detect (e.g. vehicles passing in the backgroun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can only recognise the behaviours after they have taken place. This is OK for an off-line analysis system (post-event analysis) but not useful for a “live” system where we want to be able to detect behaviours as they emerge (for control and predic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WATCH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72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HIVIS WATCHER, a set of (computationally low-cost) Visual Routines are used to generate pre-attentive obje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high level Control Policy is used to select objects that warrant attention (attentive selection) - In this case, mutual proximity of objects. This control policy determines a “watch” parameter (how useful are these objects to wat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ictic (“pointing”) markers are assigned to selected objects. Behaviour primitives (“episodes”) are formed by applying BBN rules on objects referenced by the mar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WATCHER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eictic (“pointing”) referen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419360" y="2615760"/>
            <a:ext cx="4343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-attentive selection assigns markers to objects that warrant atten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each object, we determine information about the relative position, speed and heading of the 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BNs are then used to combine data into likely epis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Image1" descr=""/>
          <p:cNvPicPr/>
          <p:nvPr/>
        </p:nvPicPr>
        <p:blipFill>
          <a:blip r:embed="rId1"/>
          <a:stretch/>
        </p:blipFill>
        <p:spPr>
          <a:xfrm>
            <a:off x="1422360" y="238428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WATCHER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bining spatial relationships into episod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59" name="Image2" descr=""/>
          <p:cNvPicPr/>
          <p:nvPr/>
        </p:nvPicPr>
        <p:blipFill>
          <a:blip r:embed="rId1"/>
          <a:stretch/>
        </p:blipFill>
        <p:spPr>
          <a:xfrm>
            <a:off x="884160" y="2685960"/>
            <a:ext cx="8110440" cy="4108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82280" y="2362320"/>
            <a:ext cx="740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me   pairs  watch        agents      s o deictic state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take    follow      queue   unknown    episod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c Bayesia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call from previous lectures that BBNs have Conditional Probability tables for each n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s static approach can be extended to reflect the fact that external factors can influence the BBN (structure and CPT values) in a manner that may not be convenient to model by adding additional nodes to the network, resulting in a DB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, using HIVIS as an example, knowledge of the likely episode at time t influences our belief in the likely episode at time t+1 (like a Markov assumption). Such an assumption can help us, for example, to maintain temporal continu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c Decisio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85960" y="2523600"/>
            <a:ext cx="79531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DNs are similar in concept, but include the notion of utility U of an action resulting from a decision 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895400" y="3751200"/>
          <a:ext cx="5410440" cy="1185840"/>
        </p:xfrm>
        <a:graphic>
          <a:graphicData uri="http://schemas.openxmlformats.org/drawingml/2006/table">
            <a:tbl>
              <a:tblPr/>
              <a:tblGrid>
                <a:gridCol w="2210040"/>
                <a:gridCol w="152388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3366"/>
                      </a:solidFill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Rain)=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Sunny=0.7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k to wor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rive to wor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735200" y="5257800"/>
                <a:ext cx="60562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al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iv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raphical representation of DBNs and DD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8" name="bat1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960960" cy="2676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944240" y="524664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00520" y="5634000"/>
            <a:ext cx="751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Decisions D are made by some agent (cf. to-down control) an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nform the state evolution process. When “looking ahead”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we use Utility U to evaluate the cost associated of being in a stat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Automated Taxi (BAT)</a:t>
            </a:r>
            <a:br>
              <a:rPr sz="3600"/>
            </a:br>
            <a:r>
              <a:rPr b="1" lang="en-GB" sz="1800" spc="-1" strike="noStrike">
                <a:solidFill>
                  <a:srgbClr val="006666"/>
                </a:solidFill>
                <a:latin typeface="Arial"/>
              </a:rPr>
              <a:t>Forbes, Huang, Kanazawa and Russell 1995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72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orbes et al was concerned with autonomous vehicles for driving on a normal (unadapted) highway using vi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veloped a driving simulator for the BATmobile to test DDN based decision making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se a set of high-level decision tree structures to decide which actions to pursue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4" name="bat3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3809880" cy="2075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42360" y="653904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Automated Taxi (BAT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78" name="bat2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4226040" cy="4329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53000" y="656748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29200" y="2747520"/>
            <a:ext cx="3821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a part of the probabilistic network for one veh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aller nodes with thicker outlines are sensor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Automated Taxi (BAT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121400" y="581652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4" name="bat4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3733920" cy="3093840"/>
          </a:xfrm>
          <a:prstGeom prst="rect">
            <a:avLst/>
          </a:prstGeom>
          <a:ln w="0">
            <a:noFill/>
          </a:ln>
        </p:spPr>
      </p:pic>
      <p:pic>
        <p:nvPicPr>
          <p:cNvPr id="285" name="bat5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3797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9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gnising visual behavi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ottom-up and top-down vi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IVIS (case stud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ynamic Bayesia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ynamic Decisio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ayes Automated Taxi (case stud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this lecture we shall see how some of the techniques we have seen thus far can be used to build real Cognitive Vision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ceptual descriptions from monitoring and watching image sequences”, R. J. Howarth and H. Buxton, Image and Vision Computing 18, 2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BATmobile: Towards a Bayesian Automated Taxi”, J. Forbes, T. Huang, K, Kanazawa, S. Russell, 19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 behaviour recognition involves modelling the spatial and temporal structures of scales in terms of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op-down or task-driven approach has many advantages in computational te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ynamic Bayesian Nets and Dynamic Decision Nets are useful formalisms for real-world appl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 based visual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ual behavi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 computational terms, visual behaviour can be defined as a functional description of the spatial and/or temporal dynamics of a visual object or set of objects in an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unctional description may be characterised by, for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imple” tabular fo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t of visual prototypes (facial models 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atistical models (HMMs, VLMMs 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cognising visual behaviour means finding the fit between the model and observation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ual behavi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47880" y="263376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9640" y="3254400"/>
            <a:ext cx="366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© Johnson &amp; Hog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Green circles indicate match wit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a “normal” trajectory. Red circ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dicate “unusual” behaviou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ual behavi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74600" y="5821200"/>
            <a:ext cx="317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toy example due to Frey &amp; Jojic involving changing structure over ti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05520" y="2666880"/>
            <a:ext cx="3581280" cy="2957760"/>
            <a:chOff x="5105520" y="2666880"/>
            <a:chExt cx="3581280" cy="2957760"/>
          </a:xfrm>
        </p:grpSpPr>
        <p:sp>
          <p:nvSpPr>
            <p:cNvPr id="105" name=""/>
            <p:cNvSpPr/>
            <p:nvPr/>
          </p:nvSpPr>
          <p:spPr>
            <a:xfrm rot="5400000">
              <a:off x="5230800" y="50544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5586480" y="53593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5586480" y="52070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5586480" y="50544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5408640" y="50544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5230800" y="53593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5230800" y="52070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5560920" y="44197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256000" y="47750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5408640" y="47750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560920" y="47750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560920" y="459720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5256000" y="44197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408640" y="441972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86480" y="4139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230800" y="3835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5230800" y="39873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5230800" y="4139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5408640" y="4139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5586480" y="3835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5586480" y="39873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7800" y="355752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32018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440" y="32018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32018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337968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2720" y="35575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440" y="35575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050320" y="2692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8405640" y="299736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8405640" y="284508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405280" y="2692440"/>
              <a:ext cx="15264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8160" y="2692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8050320" y="29970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8050320" y="28447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7694640" y="266688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7389720" y="30225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7542000" y="30225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7694640" y="302256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7694640" y="284472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7389720" y="26668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7542000" y="26668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302436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840" y="26686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266868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26686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19920" y="28465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840" y="302436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72200" y="3024360"/>
              <a:ext cx="15264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5040" y="4952880"/>
              <a:ext cx="7365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9240" y="4984920"/>
              <a:ext cx="711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27880" y="4984920"/>
              <a:ext cx="711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6880" y="4984920"/>
              <a:ext cx="711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05520" y="4984920"/>
              <a:ext cx="711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0240" y="4390920"/>
              <a:ext cx="7365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9240" y="4390920"/>
              <a:ext cx="7110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3440" y="4343400"/>
              <a:ext cx="7110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16880" y="4390920"/>
              <a:ext cx="7110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4390920"/>
              <a:ext cx="7113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5040" y="3733920"/>
              <a:ext cx="736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9240" y="3765600"/>
              <a:ext cx="711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27880" y="3765600"/>
              <a:ext cx="711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16880" y="3765600"/>
              <a:ext cx="711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05520" y="3765600"/>
              <a:ext cx="711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50240" y="3201840"/>
              <a:ext cx="7365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9240" y="3201840"/>
              <a:ext cx="7110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3440" y="3200400"/>
              <a:ext cx="7110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16880" y="3201840"/>
              <a:ext cx="7110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520" y="3201840"/>
              <a:ext cx="711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50240" y="266868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9240" y="2668680"/>
              <a:ext cx="711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7880" y="2668680"/>
              <a:ext cx="711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16880" y="2668680"/>
              <a:ext cx="711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5520" y="2668680"/>
              <a:ext cx="711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2668680"/>
              <a:ext cx="35812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320184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5520" y="376560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05520" y="439092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498492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5624640"/>
              <a:ext cx="35812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05520" y="2668680"/>
              <a:ext cx="0" cy="2955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1688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2788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3924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024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86800" y="2668680"/>
              <a:ext cx="0" cy="2955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7034400" y="299700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6678720" y="2692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6678720" y="28443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6678720" y="2996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6856560" y="2996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7034040" y="2692440"/>
              <a:ext cx="15264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7034400" y="284472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424760" y="5753160"/>
            <a:ext cx="465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+ PacMan moves forward at each time step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th probability 0.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017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ttom-up / top-down vision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generalised 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38560" y="2313000"/>
            <a:ext cx="1890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cene Interpret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60600" y="2554200"/>
            <a:ext cx="5686200" cy="4187880"/>
            <a:chOff x="1560600" y="2554200"/>
            <a:chExt cx="5686200" cy="4187880"/>
          </a:xfrm>
        </p:grpSpPr>
        <p:sp>
          <p:nvSpPr>
            <p:cNvPr id="203" name=""/>
            <p:cNvSpPr/>
            <p:nvPr/>
          </p:nvSpPr>
          <p:spPr>
            <a:xfrm>
              <a:off x="2505240" y="3084480"/>
              <a:ext cx="0" cy="293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64040" y="5156280"/>
              <a:ext cx="539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76920" y="5156280"/>
              <a:ext cx="540000" cy="366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16560" y="6012000"/>
              <a:ext cx="676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192640" y="601200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6200" y="6012000"/>
              <a:ext cx="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192280" y="625644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41920" y="3932280"/>
              <a:ext cx="2700000" cy="611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41920" y="3075120"/>
              <a:ext cx="2700000" cy="612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5480" y="5522760"/>
              <a:ext cx="1350720" cy="48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05480" y="5670720"/>
              <a:ext cx="27288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056200" y="5522400"/>
              <a:ext cx="1890720" cy="4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43548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57192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1656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5120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001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136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21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6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056200" y="28303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5960" y="5126040"/>
              <a:ext cx="9446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……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4880" y="3143160"/>
              <a:ext cx="24321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CONTROL POLIC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(WITH STATE MEMORY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0360" y="3995640"/>
              <a:ext cx="2025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FEATUR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COMBINATIO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25960" y="5183280"/>
              <a:ext cx="479160" cy="46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9800" y="5170320"/>
              <a:ext cx="541440" cy="489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7160" y="51688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2554200"/>
              <a:ext cx="161928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mage Data Drive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60600" y="6006960"/>
              <a:ext cx="189072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sk Based Contro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512880" y="5646600"/>
              <a:ext cx="13208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traffic surveillance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HIVIS (Buxton and Howarth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5" name="buxton_gong_950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4419720" cy="43956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46720" y="2522160"/>
            <a:ext cx="3751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ask is to identify traffic behaviours (such as overta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agery taken from a roundabout in Germ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xton and Howarth took two different approa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VIS MONITOR (bottom-u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VIS WATCHER (with top-down contr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MONI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895320" y="2435400"/>
          <a:ext cx="4952880" cy="3624120"/>
        </p:xfrm>
        <a:graphic>
          <a:graphicData uri="http://schemas.openxmlformats.org/drawingml/2006/table">
            <a:tbl>
              <a:tblPr/>
              <a:tblGrid>
                <a:gridCol w="1905120"/>
                <a:gridCol w="380880"/>
                <a:gridCol w="380880"/>
                <a:gridCol w="381240"/>
                <a:gridCol w="380880"/>
                <a:gridCol w="380880"/>
                <a:gridCol w="400320"/>
                <a:gridCol w="361800"/>
                <a:gridCol w="38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road-surfac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entry-roa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ary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 orientation chang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right-turn-regio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roundabout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0" name="BGCrop1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430720" cy="2438280"/>
          </a:xfrm>
          <a:prstGeom prst="rect">
            <a:avLst/>
          </a:prstGeom>
          <a:ln w="0">
            <a:noFill/>
          </a:ln>
        </p:spPr>
      </p:pic>
      <p:pic>
        <p:nvPicPr>
          <p:cNvPr id="241" name="BGCrop2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242568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05840" y="6129360"/>
            <a:ext cx="452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pace is divided into regions (see right) s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 can specify relationships on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MONI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42760" y="2568240"/>
            <a:ext cx="7691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spatial relationship primitives  were then used to build a set of activity primitives using a temporal logic e.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133720" y="4191120"/>
                <a:ext cx="4343400" cy="21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UNDABOU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NTR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URFAC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NTR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A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UNDABOU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4:55:09Z</dcterms:modified>
  <cp:revision>82</cp:revision>
  <dc:subject/>
  <dc:title>Markov Models</dc:title>
</cp:coreProperties>
</file>